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939-C258-40B4-ADD5-F501B79D3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95D4-7753-412C-912A-759B893A5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hydrogen ion is actually trans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red proton binds to an unshared orbital of the second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ter molecule that loses th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B56-B8F4-4C4D-A25F-88ECE3451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only 1 molecule out of 554,000,000 water molecules that is dissoc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9C64-A917-4D2C-AD52-0E0190AF3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orners are orbitals with unshared electrons and a weak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re occupied by hydrogen atoms that hav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A9E-9C54-42AE-B975-A6BF3B54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955-AA07-4471-AFAC-AD8D0833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834-55DF-4FA0-B2B4-5005C0C5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B5A-23D5-46D6-AEDD-16D2D859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F9E-B9A2-4354-8CF8-E0A5232B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CF9-0DBB-407C-9C35-AD405D2C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31A-B3C9-45E7-A21D-A76F0573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568-A63B-4749-B5E3-9B0E1A20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CCB-A894-4F9D-87B0-1F8DE6B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DAF-054B-49FB-849C-6A3DDC63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86F-5943-41C1-945E-B3D27454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B54-2C1E-4AAF-BBC0-35E3CC4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47B1-38B4-445A-9DD6-0BAB5F39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03-x1-Water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Wa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Evaporative C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4080" y="15238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ling of a surface occurs when the liquid evapo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ating earth’s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ilizes  temperature in aquatic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enting organisms from over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9" descr="dogpant"/>
          <p:cNvPicPr/>
          <p:nvPr/>
        </p:nvPicPr>
        <p:blipFill>
          <a:blip r:embed="rId1"/>
          <a:stretch/>
        </p:blipFill>
        <p:spPr>
          <a:xfrm>
            <a:off x="1676520" y="4721400"/>
            <a:ext cx="1760400" cy="213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fishbowl"/>
          <p:cNvPicPr/>
          <p:nvPr/>
        </p:nvPicPr>
        <p:blipFill>
          <a:blip r:embed="rId2"/>
          <a:stretch/>
        </p:blipFill>
        <p:spPr>
          <a:xfrm>
            <a:off x="6934320" y="3124080"/>
            <a:ext cx="1904760" cy="167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03-04-EvaporativeCooling"/>
          <p:cNvPicPr/>
          <p:nvPr/>
        </p:nvPicPr>
        <p:blipFill>
          <a:blip r:embed="rId3"/>
          <a:stretch/>
        </p:blipFill>
        <p:spPr>
          <a:xfrm>
            <a:off x="228600" y="1792440"/>
            <a:ext cx="24382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ens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dense at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s until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ands from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to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winter"/>
          <p:cNvPicPr/>
          <p:nvPr/>
        </p:nvPicPr>
        <p:blipFill>
          <a:blip r:embed="rId1"/>
          <a:stretch/>
        </p:blipFill>
        <p:spPr>
          <a:xfrm>
            <a:off x="4876920" y="1523880"/>
            <a:ext cx="36576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85840" y="3429000"/>
            <a:ext cx="85723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nsity of w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s water from freezing from the bottom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 forms on the surface first—the freezing of the water releases heat to the water below creating ins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s transition between season less abru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ter reaches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ater becomes locked into a crystalline lattice with each molecule bonded to to the maximum of four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ce starts to melt, some of the hydrogen bonds break and some water molecules can slip closer together than they can while in the ic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e is about 10% less dense than water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0" r="0" b="5878"/>
          <a:stretch/>
        </p:blipFill>
        <p:spPr>
          <a:xfrm>
            <a:off x="1600200" y="360216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81648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Solvent for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ous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i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compounds dissolv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 molecules (generally) are water sol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ob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polar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chemistry"/>
          <p:cNvPicPr/>
          <p:nvPr/>
        </p:nvPicPr>
        <p:blipFill>
          <a:blip r:embed="rId1"/>
          <a:stretch/>
        </p:blipFill>
        <p:spPr>
          <a:xfrm>
            <a:off x="4876920" y="1828800"/>
            <a:ext cx="38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st biochemical reactions involve solutes dissolved in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are two important quantitative proprieties of aqueous solu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Concen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oncentration of 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cular weight – sum of the weights of all atoms in a molecule (dal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 – amount of a substance that has a mass in grams numerically equivalent to its molecular weight in dal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gadro’s number – 6.02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le of one substance has the same number of molecules as a mole of any other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03-x2-OneMoleOfEach"/>
          <p:cNvPicPr/>
          <p:nvPr/>
        </p:nvPicPr>
        <p:blipFill>
          <a:blip r:embed="rId1"/>
          <a:stretch/>
        </p:blipFill>
        <p:spPr>
          <a:xfrm>
            <a:off x="5715000" y="4422600"/>
            <a:ext cx="34290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lar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6760" y="1076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ncentration of a material in solution is called its mo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one molar solution has one mole of a substance dissolved in one liter of solvent, typically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4920" y="289548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a one molar solution of  sucrose,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219320" y="362916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12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= 1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= 16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038480" y="361476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x12 =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x 22 =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x 11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723960" y="52578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2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05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2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ly, a hydrogen atom shared by two water molecules shifts from one molecul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drogen atom leaves its electron behind and is transferred as a single proton -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gen 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molecule that lost a proton is now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x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e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ra prot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droniu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ssociation of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30492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rcRect l="0" t="0" r="0" b="7375"/>
          <a:stretch/>
        </p:blipFill>
        <p:spPr>
          <a:xfrm>
            <a:off x="3962520" y="4267080"/>
            <a:ext cx="480672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3989520" y="6019920"/>
            <a:ext cx="200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Unnumbered Fig. 3.4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water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water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water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water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mpler way to view this process is that a water molecule dissociates into a hydrogen ion and a hydroxide 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&lt;=&gt;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is rever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 the concentration of water molecules greatly exceeds that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ure water only one water molecule in every 554 million is dissoci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, the concentration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(25°C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stance that increases the hydrogen ion concentration in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tance that reduces the hydrogen ion concentration in a solution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bases reduce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acids and bases complete dissociate 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acids and bases dissociate only partially and reversi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61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198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029040" y="1481040"/>
            <a:ext cx="313200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5322960" y="838080"/>
            <a:ext cx="3821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water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ater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water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ater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water"/>
          <p:cNvPicPr/>
          <p:nvPr/>
        </p:nvPicPr>
        <p:blipFill>
          <a:blip r:embed="rId5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roperties of Wa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olar 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hesion and ad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High specific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ensity – greatest at 4</a:t>
            </a:r>
            <a:r>
              <a:rPr b="1" lang="en-US" sz="3600" spc="-1" strike="noStrike" baseline="30000">
                <a:solidFill>
                  <a:srgbClr val="003399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Universal solvent of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03-00-Earth"/>
          <p:cNvPicPr/>
          <p:nvPr/>
        </p:nvPicPr>
        <p:blipFill>
          <a:blip r:embed="rId6"/>
          <a:stretch/>
        </p:blipFill>
        <p:spPr>
          <a:xfrm>
            <a:off x="5181480" y="36194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H Sca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in any aqueous solu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degree of acidity (0 – 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ologic fluids are in the pH range from 6 –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H unit represents a tenfold difference (scale is logarithm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ll change in pH actually indicates a substantial change in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Probl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447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w much greater is the [ H</a:t>
            </a:r>
            <a:r>
              <a:rPr b="1" lang="en-US" sz="3200" spc="-1" strike="noStrike" baseline="30000">
                <a:solidFill>
                  <a:srgbClr val="00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] in a solution with pH 2 than in a solution with pH 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38080" y="3733920"/>
            <a:ext cx="7925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2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6 = 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,000,0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,000 times gr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Buff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868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ubstance that eliminates large sudden changes in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ffers help organisms maintain the pH of body fluids within the narrow range necessary for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combinations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ceptors and donors forms in a solution of weak acids or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by accep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from solutions when they are in excess and by dona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when they have been dep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Acid Precipi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, snow or fog with more strongly acidic than pH of 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 Virginia has recorded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t Tennessee reported 4.2 in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sulfur oxides and nitrogen oxides react with water in the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s pH of soil which affects mineral solubility – decline of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 pH of lakes and ponds – In the Western Adirondack Mountains, there are lakes with a pH &lt;5 that have no f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Acidrain"/>
          <p:cNvPicPr/>
          <p:nvPr/>
        </p:nvPicPr>
        <p:blipFill>
          <a:blip r:embed="rId1"/>
          <a:stretch/>
        </p:blipFill>
        <p:spPr>
          <a:xfrm>
            <a:off x="7620120" y="1752480"/>
            <a:ext cx="1164960" cy="141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cidrain"/>
          <p:cNvPicPr/>
          <p:nvPr/>
        </p:nvPicPr>
        <p:blipFill>
          <a:blip r:embed="rId2"/>
          <a:stretch/>
        </p:blipFill>
        <p:spPr>
          <a:xfrm>
            <a:off x="380880" y="228600"/>
            <a:ext cx="914400" cy="1112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Acidrain"/>
          <p:cNvPicPr/>
          <p:nvPr/>
        </p:nvPicPr>
        <p:blipFill>
          <a:blip r:embed="rId3"/>
          <a:stretch/>
        </p:blipFill>
        <p:spPr>
          <a:xfrm>
            <a:off x="0" y="5181480"/>
            <a:ext cx="116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Polar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water molecule two hydrogen atoms form single polar covalent bonds with an oxygen atom. Gives water more structure than other 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xygen is more electronegative, the region around oxygen has a partial nega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gion near the two hydrogen atoms has a partial posi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 molecule is a polar molecule with opposite ends of the molecule with opposit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6019920" y="4267080"/>
          <a:ext cx="281304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267080"/>
                    <a:ext cx="28130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1532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has a variety of unusual properties because of attractions between these pola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ightly negative regions of one molecule are attracted to the slightly positive regions of nearby molecules, forming a hydrogen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ater molec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orm hydrog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with up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neighb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800600" y="3468600"/>
            <a:ext cx="4038480" cy="3062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733920" y="6248520"/>
            <a:ext cx="99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d water molecule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water molecule can form a maximum of 4 hydroge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ydrogen bonds joining water molecules are weak, about 1/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strong as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form, break, and reform with great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ordinary Properties that are a result of hydrogen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hesiv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ists changes 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ands when it fre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satile sol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water"/>
          <p:cNvPicPr/>
          <p:nvPr/>
        </p:nvPicPr>
        <p:blipFill>
          <a:blip r:embed="rId1"/>
          <a:stretch/>
        </p:blipFill>
        <p:spPr>
          <a:xfrm>
            <a:off x="5029200" y="4648320"/>
            <a:ext cx="373392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Organisms Depend on Cohe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is responsible for the transport of the water column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among water molecules plays a key role in the transport of water against gravity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esion, cling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one substance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, contribut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, as water adher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wall of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s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47640" y="9144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drogen bonds hold the substance together, a phenomenon called 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03-02x-Trees"/>
          <p:cNvPicPr/>
          <p:nvPr/>
        </p:nvPicPr>
        <p:blipFill>
          <a:blip r:embed="rId1"/>
          <a:stretch/>
        </p:blipFill>
        <p:spPr>
          <a:xfrm>
            <a:off x="4952880" y="213372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face tens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easure of the force necessary to stretch or break the surface of a liquid, is related to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has a greater surface tension than most other liquids because hydrogen bonds among surface water molecules resist stretching or breaking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ehaves as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by an invi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nimals can stan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, or run on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breaking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rcRect l="6000" t="0" r="10001" b="0"/>
          <a:stretch/>
        </p:blipFill>
        <p:spPr>
          <a:xfrm>
            <a:off x="5410080" y="3429000"/>
            <a:ext cx="3048120" cy="2720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533772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derates Temperatures o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kinetic ener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er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or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difference in cal and C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specific 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35"/>
          <p:cNvGrpSpPr/>
          <p:nvPr/>
        </p:nvGrpSpPr>
        <p:grpSpPr>
          <a:xfrm>
            <a:off x="304920" y="2660760"/>
            <a:ext cx="4038480" cy="4120920"/>
            <a:chOff x="304920" y="2660760"/>
            <a:chExt cx="4038480" cy="4120920"/>
          </a:xfrm>
        </p:grpSpPr>
        <p:grpSp>
          <p:nvGrpSpPr>
            <p:cNvPr id="82" name="Group 33"/>
            <p:cNvGrpSpPr/>
            <p:nvPr/>
          </p:nvGrpSpPr>
          <p:grpSpPr>
            <a:xfrm>
              <a:off x="308520" y="2665440"/>
              <a:ext cx="4030560" cy="4111560"/>
              <a:chOff x="308520" y="2665440"/>
              <a:chExt cx="4030560" cy="4111560"/>
            </a:xfrm>
          </p:grpSpPr>
          <p:grpSp>
            <p:nvGrpSpPr>
              <p:cNvPr id="83" name="Group 16"/>
              <p:cNvGrpSpPr/>
              <p:nvPr/>
            </p:nvGrpSpPr>
            <p:grpSpPr>
              <a:xfrm>
                <a:off x="308520" y="2665440"/>
                <a:ext cx="4030560" cy="822240"/>
                <a:chOff x="308520" y="2665440"/>
                <a:chExt cx="4030560" cy="822240"/>
              </a:xfrm>
            </p:grpSpPr>
            <p:sp>
              <p:nvSpPr>
                <p:cNvPr id="84" name="Rectangle 6"/>
                <p:cNvSpPr/>
                <p:nvPr/>
              </p:nvSpPr>
              <p:spPr>
                <a:xfrm>
                  <a:off x="364320" y="2665440"/>
                  <a:ext cx="3918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lsius Scale at Sea Lev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15"/>
                <p:cNvSpPr/>
                <p:nvPr/>
              </p:nvSpPr>
              <p:spPr>
                <a:xfrm>
                  <a:off x="308520" y="2665440"/>
                  <a:ext cx="4030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18"/>
              <p:cNvGrpSpPr/>
              <p:nvPr/>
            </p:nvGrpSpPr>
            <p:grpSpPr>
              <a:xfrm>
                <a:off x="308520" y="3487680"/>
                <a:ext cx="1171440" cy="822240"/>
                <a:chOff x="308520" y="3487680"/>
                <a:chExt cx="1171440" cy="822240"/>
              </a:xfrm>
            </p:grpSpPr>
            <p:sp>
              <p:nvSpPr>
                <p:cNvPr id="87" name="Rectangle 7"/>
                <p:cNvSpPr/>
                <p:nvPr/>
              </p:nvSpPr>
              <p:spPr>
                <a:xfrm>
                  <a:off x="364320" y="348768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17"/>
                <p:cNvSpPr/>
                <p:nvPr/>
              </p:nvSpPr>
              <p:spPr>
                <a:xfrm>
                  <a:off x="308520" y="348768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20"/>
              <p:cNvGrpSpPr/>
              <p:nvPr/>
            </p:nvGrpSpPr>
            <p:grpSpPr>
              <a:xfrm>
                <a:off x="1479960" y="3487680"/>
                <a:ext cx="2858760" cy="822240"/>
                <a:chOff x="1479960" y="3487680"/>
                <a:chExt cx="2858760" cy="822240"/>
              </a:xfrm>
            </p:grpSpPr>
            <p:sp>
              <p:nvSpPr>
                <p:cNvPr id="90" name="Rectangle 8"/>
                <p:cNvSpPr/>
                <p:nvPr/>
              </p:nvSpPr>
              <p:spPr>
                <a:xfrm>
                  <a:off x="1535400" y="348768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boi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9"/>
                <p:cNvSpPr/>
                <p:nvPr/>
              </p:nvSpPr>
              <p:spPr>
                <a:xfrm>
                  <a:off x="1479960" y="348768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22"/>
              <p:cNvGrpSpPr/>
              <p:nvPr/>
            </p:nvGrpSpPr>
            <p:grpSpPr>
              <a:xfrm>
                <a:off x="308520" y="4309920"/>
                <a:ext cx="1171440" cy="822600"/>
                <a:chOff x="308520" y="4309920"/>
                <a:chExt cx="1171440" cy="822600"/>
              </a:xfrm>
            </p:grpSpPr>
            <p:sp>
              <p:nvSpPr>
                <p:cNvPr id="93" name="Rectangle 9"/>
                <p:cNvSpPr/>
                <p:nvPr/>
              </p:nvSpPr>
              <p:spPr>
                <a:xfrm>
                  <a:off x="364320" y="4309920"/>
                  <a:ext cx="10591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1"/>
                <p:cNvSpPr/>
                <p:nvPr/>
              </p:nvSpPr>
              <p:spPr>
                <a:xfrm>
                  <a:off x="308520" y="4309920"/>
                  <a:ext cx="11714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4"/>
              <p:cNvGrpSpPr/>
              <p:nvPr/>
            </p:nvGrpSpPr>
            <p:grpSpPr>
              <a:xfrm>
                <a:off x="1479960" y="4309920"/>
                <a:ext cx="2858760" cy="822600"/>
                <a:chOff x="1479960" y="4309920"/>
                <a:chExt cx="2858760" cy="822600"/>
              </a:xfrm>
            </p:grpSpPr>
            <p:sp>
              <p:nvSpPr>
                <p:cNvPr id="96" name="Rectangle 10"/>
                <p:cNvSpPr/>
                <p:nvPr/>
              </p:nvSpPr>
              <p:spPr>
                <a:xfrm>
                  <a:off x="1535400" y="4309920"/>
                  <a:ext cx="2746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uman body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3"/>
                <p:cNvSpPr/>
                <p:nvPr/>
              </p:nvSpPr>
              <p:spPr>
                <a:xfrm>
                  <a:off x="1479960" y="4309920"/>
                  <a:ext cx="285876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26"/>
              <p:cNvGrpSpPr/>
              <p:nvPr/>
            </p:nvGrpSpPr>
            <p:grpSpPr>
              <a:xfrm>
                <a:off x="308520" y="5132520"/>
                <a:ext cx="1171440" cy="822240"/>
                <a:chOff x="308520" y="5132520"/>
                <a:chExt cx="1171440" cy="822240"/>
              </a:xfrm>
            </p:grpSpPr>
            <p:sp>
              <p:nvSpPr>
                <p:cNvPr id="99" name="Rectangle 11"/>
                <p:cNvSpPr/>
                <p:nvPr/>
              </p:nvSpPr>
              <p:spPr>
                <a:xfrm>
                  <a:off x="364320" y="513252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25"/>
                <p:cNvSpPr/>
                <p:nvPr/>
              </p:nvSpPr>
              <p:spPr>
                <a:xfrm>
                  <a:off x="308520" y="513252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8"/>
              <p:cNvGrpSpPr/>
              <p:nvPr/>
            </p:nvGrpSpPr>
            <p:grpSpPr>
              <a:xfrm>
                <a:off x="1479960" y="5132520"/>
                <a:ext cx="2858760" cy="822240"/>
                <a:chOff x="1479960" y="5132520"/>
                <a:chExt cx="2858760" cy="822240"/>
              </a:xfrm>
            </p:grpSpPr>
            <p:sp>
              <p:nvSpPr>
                <p:cNvPr id="102" name="Rectangle 12"/>
                <p:cNvSpPr/>
                <p:nvPr/>
              </p:nvSpPr>
              <p:spPr>
                <a:xfrm>
                  <a:off x="1535400" y="513252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om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27"/>
                <p:cNvSpPr/>
                <p:nvPr/>
              </p:nvSpPr>
              <p:spPr>
                <a:xfrm>
                  <a:off x="1479960" y="513252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30"/>
              <p:cNvGrpSpPr/>
              <p:nvPr/>
            </p:nvGrpSpPr>
            <p:grpSpPr>
              <a:xfrm>
                <a:off x="308520" y="5954760"/>
                <a:ext cx="1171440" cy="822240"/>
                <a:chOff x="308520" y="5954760"/>
                <a:chExt cx="1171440" cy="822240"/>
              </a:xfrm>
            </p:grpSpPr>
            <p:sp>
              <p:nvSpPr>
                <p:cNvPr id="105" name="Rectangle 13"/>
                <p:cNvSpPr/>
                <p:nvPr/>
              </p:nvSpPr>
              <p:spPr>
                <a:xfrm>
                  <a:off x="364320" y="595476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29"/>
                <p:cNvSpPr/>
                <p:nvPr/>
              </p:nvSpPr>
              <p:spPr>
                <a:xfrm>
                  <a:off x="308520" y="595476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32"/>
              <p:cNvGrpSpPr/>
              <p:nvPr/>
            </p:nvGrpSpPr>
            <p:grpSpPr>
              <a:xfrm>
                <a:off x="1479960" y="5954760"/>
                <a:ext cx="2858760" cy="822240"/>
                <a:chOff x="1479960" y="5954760"/>
                <a:chExt cx="2858760" cy="822240"/>
              </a:xfrm>
            </p:grpSpPr>
            <p:sp>
              <p:nvSpPr>
                <p:cNvPr id="108" name="Rectangle 14"/>
                <p:cNvSpPr/>
                <p:nvPr/>
              </p:nvSpPr>
              <p:spPr>
                <a:xfrm>
                  <a:off x="1535400" y="595476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freez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31"/>
                <p:cNvSpPr/>
                <p:nvPr/>
              </p:nvSpPr>
              <p:spPr>
                <a:xfrm>
                  <a:off x="1479960" y="595476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Rectangle 34"/>
            <p:cNvSpPr/>
            <p:nvPr/>
          </p:nvSpPr>
          <p:spPr>
            <a:xfrm>
              <a:off x="304920" y="2660760"/>
              <a:ext cx="4038480" cy="412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Rectangle 36"/>
          <p:cNvSpPr/>
          <p:nvPr/>
        </p:nvSpPr>
        <p:spPr>
          <a:xfrm>
            <a:off x="0" y="5181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304920" y="7812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stabilizes air temperatures by absorbing heat from warmer air and releasing heat to cooler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can absorb or release relatively large amounts of heat with only a slight change in its own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52280" y="1828800"/>
            <a:ext cx="57913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fourths of the earth is covered by water.  The water serves as a large heat sink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ion of temperature fluctuations that are outside the range suitable fo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stal areas having a mild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able marin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Specific Heat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is the amount of heat that must be absorbed or lost for  one gram of a substance to change its temperature by 1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03-06x1-IceFishing"/>
          <p:cNvPicPr/>
          <p:nvPr/>
        </p:nvPicPr>
        <p:blipFill>
          <a:blip r:embed="rId1"/>
          <a:stretch/>
        </p:blipFill>
        <p:spPr>
          <a:xfrm>
            <a:off x="5799240" y="2666880"/>
            <a:ext cx="3725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22:42:44Z</dcterms:created>
  <dc:creator>Pre-Installed-User</dc:creator>
  <dc:description/>
  <dc:language>en-US</dc:language>
  <cp:lastModifiedBy>Lyn Clarkson</cp:lastModifiedBy>
  <dcterms:modified xsi:type="dcterms:W3CDTF">2008-03-04T23:21:06Z</dcterms:modified>
  <cp:revision>8</cp:revision>
  <dc:subject/>
  <dc:title>Properties of Water</dc:title>
</cp:coreProperties>
</file>